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94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9400"/>
              <a:gd name="textAreaBottom" fmla="*/ 9869040 h 9869400"/>
            </a:gdLst>
            <a:ahLst/>
            <a:rect l="textAreaLeft" t="textAreaTop" r="textAreaRight" b="textAreaBottom"/>
            <a:pathLst>
              <a:path w="21600" h="31649">
                <a:moveTo>
                  <a:pt x="5" y="0"/>
                </a:moveTo>
                <a:arcTo wR="5" hR="5" stAng="16200000" swAng="-5400000"/>
                <a:lnTo>
                  <a:pt x="0" y="31644"/>
                </a:lnTo>
                <a:arcTo wR="5" hR="5" stAng="10800000" swAng="-5400000"/>
                <a:lnTo>
                  <a:pt x="21595" y="316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368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7A61867D-FECF-4789-A0EF-4427ABDBFAF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5DA31695-CCFF-45AF-B561-AEC4B42A05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24C4A119-BDE9-4603-996C-8A87AC33084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B0236CE9-7A7A-44B0-A22D-95CDCD157F7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6F8EB266-2859-4BFA-82E9-27FFED28E14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BAFBD9B3-7D91-4DC2-B44B-B63D280FB6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F67B6AA9-6184-4601-B86D-9DF89C236A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EF7A-DE22-4517-8E67-F54EA7E139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1AB3-BB60-4344-A5C5-4D2378D8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EAA5-C05A-49E8-9AA1-A0FDF24A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F9D9-9588-40A4-A94B-B0C306C07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D5D3-D33D-4D88-9F2E-83F6E812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37A9-E15B-4DBF-A917-85FF6E87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A127C-317D-478A-A98B-D456B812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51C2-3012-4E3B-A6C5-93890878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413C-E0AC-4BF5-B77B-A9932069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7609-9F9E-4B7F-86EC-F9D738BD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5D8C-8334-42C1-BC1F-A99608AD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51A8-D12F-4997-81E5-5106521C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17A473-EDCA-4F7F-BBE9-A8DD12C1888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лан мероприятий по реализации проекта 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S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БУЗ Кузнецкая межрайонная больница» поликлиника №4 на 1 квартал 2019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6120" y="2093760"/>
          <a:ext cx="8528040" cy="380052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377640"/>
                <a:gridCol w="392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.01.19-29.03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.01.19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4 государственном бюджетном учреждении здравоохранения  Кузнецкая межрайонная больница рабочую группу по реализации пилотного проекта «Бережливая поликлиника» на территории поликлиники№4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 планировки процедурного кабинета поликлиники №4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ить сбор информации о ключевых проблемах в организации работы поликлиники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при обращении в процедурный кабинет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при обращении в процедурный кабинет для забора крови.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165240"/>
            <a:ext cx="3429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433000" cy="3376440"/>
        </p:xfrm>
        <a:graphic>
          <a:graphicData uri="http://schemas.openxmlformats.org/drawingml/2006/table">
            <a:tbl>
              <a:tblPr/>
              <a:tblGrid>
                <a:gridCol w="411480"/>
                <a:gridCol w="2100240"/>
                <a:gridCol w="482400"/>
                <a:gridCol w="372960"/>
                <a:gridCol w="387360"/>
                <a:gridCol w="381240"/>
                <a:gridCol w="425520"/>
                <a:gridCol w="357120"/>
                <a:gridCol w="350640"/>
                <a:gridCol w="352440"/>
                <a:gridCol w="351000"/>
                <a:gridCol w="352440"/>
                <a:gridCol w="350640"/>
                <a:gridCol w="352440"/>
                <a:gridCol w="352440"/>
                <a:gridCol w="351000"/>
                <a:gridCol w="352440"/>
                <a:gridCol w="34920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4.02.-06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5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сотрудников поликлиники для выявления ключевых проблем организации рабочего проце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 об удовлетворенности пациентов поликлиники оказанной медицинской помощь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уровня вовлеченности сотрудников поликлиники до запуска проек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6880" y="544680"/>
          <a:ext cx="8285400" cy="249696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6.02-07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 обсуждение полученных результатов на совещаниях  рабочей групп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совещаний  рабочей группы по выполнению поставленных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ориентировочной сметы расходов на реализацию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6880" y="544680"/>
          <a:ext cx="8285400" cy="32032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.-12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 работы процедурного кабинета в новых условиях 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ерепланировка регистратуры поликлиники № 4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овая организация простран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ение  дополнительного  пространства (площадей) для ожидания пациентов, обеспечение посадочными  мест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 медицинской мебели в процедурный кабинет (манипуляционные столик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6880" y="544680"/>
          <a:ext cx="8285400" cy="204120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.-20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информационного  сопровождения(единый образец стенда расположения кабинетов, новый образец расписания по профилям медицинской помощи, единый образец стенда с нормативно-правовыми документами, стенд по независимой оценке каче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6880" y="544680"/>
          <a:ext cx="8285400" cy="23968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50640"/>
                <a:gridCol w="3952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5317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03.-29.0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 г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.0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чет по реализации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185"/>
          <p:cNvSpPr/>
          <p:nvPr/>
        </p:nvSpPr>
        <p:spPr>
          <a:xfrm>
            <a:off x="581040" y="590076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ного офиса           зав.  поликлиникой № 4                          Бондаренко С.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pol4-stm</cp:lastModifiedBy>
  <cp:lastPrinted>2018-01-18T10:20:20Z</cp:lastPrinted>
  <dcterms:modified xsi:type="dcterms:W3CDTF">2019-02-04T12:15:47Z</dcterms:modified>
  <cp:revision>344</cp:revision>
  <dc:subject/>
  <dc:title>Слайд 1</dc:title>
</cp:coreProperties>
</file>